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85701-AFAC-447E-B32F-FDEE436D5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103F1-6102-4CB4-9CBA-E01325ED4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B29E7-D5F8-4AE2-81C8-AD35BE823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FA977-DFD0-45FF-BC39-5E2F31E2F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D4F5C-B979-4D18-AA9E-89D344C6B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07D2D-3F23-4448-9C07-4D32B58EB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899BF-A455-4D37-822A-6FC6D1AE1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CD334-1F77-4416-9CE6-A51F4FA5E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6F54E-698F-41A1-85D4-0087B560B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D6D35-09B1-49D5-BC5E-3747848E2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A38B6-9196-4E72-A34C-63B025844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756F2-D4B2-4ABF-A88D-C368B4BCE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6E04B-ED68-4E2E-B870-3D5650456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99163-2AD7-4670-9246-B340F1060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F46B7-3B84-4086-B697-4C7194B36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C3ACD-7331-44BE-B6FE-5122D9AD2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2EE96-1538-43C9-9D01-69328C7AD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797202-27AB-45A6-AD3C-9FF0FC4B2B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7C7EC1-0079-40C6-94D1-A8D92B2D5B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0BFEA-21AC-4C8D-9765-063C802E7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9FAE7-EEAD-452B-9A02-5C7A190A99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4ABFD-66A6-408B-8995-F10F48A8FD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94FE3-D8B3-412B-B29D-54B49E3F0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99BC54-F0BE-4685-AB53-9D0CA8D252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4B3D7-8587-480E-984C-B99400C0B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A993D-1D0A-4279-ADFD-07AC9AE7A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CA779-9D3B-4B9D-9D79-4EEE599A1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C2EE28-35BB-4BBB-A4EA-16AFD97A4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A338D7-5A04-4C3E-B45E-DFE45D92B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7E8017-9124-4F6F-A898-73A05677C7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02361A-1014-441C-8CCE-F10D9D2C9E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896A85-8E27-4CC8-B29D-009846923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5F2647-E803-48CC-8535-F77C8D729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7D185-36B5-4C41-B8A6-C2A1F53D6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C861E-3C08-4F88-B1F4-9C4A4EE711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3EFEA-4A8F-462C-A561-8A7D8E3905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325A8-2099-4723-83E9-595F1622D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D29D8-DA1F-4348-A2D0-237042836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FBD64F-F767-4425-95B3-C3AD9A98C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97FED-C8D0-4963-9241-794338C7A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A2193F-E98B-44CD-8F80-7A13DCC253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3D9F5D-9A47-4DAA-95E0-36880CB95A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3473CD-0CE1-4F7C-9570-3D1E371761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E7C4EB-B8FB-48C2-9BAA-3493727383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2C5D4-8B94-43DD-B027-839E8C420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2B1B48-2D12-432F-8478-339F2AB598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FE2468-90A0-40B7-A36D-94B5FA388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2B6A2B-41BF-40BF-AF29-D3DE3E05B9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5D57C0-3EF8-495A-BCBD-67B1BB44E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D50B20-1F66-441A-A073-15A6A16FFE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C7875-42E9-494B-9651-2BB28085D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DCE86-A865-4B23-B9AD-E52424360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8F526-F71E-41EF-BD80-412015511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6EB864-0A5D-4513-8B20-CEE29F2A02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381DEE-9DA7-4C47-BBD6-6EB20A838A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97B2-D5B6-4816-85A3-8D89527C8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7E4BE0-D2EE-402A-80EA-BC3B727BE5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FDE45A-7469-4E05-9469-BFF116AC43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6638B8-8238-4F0F-A6DC-19CDD103E4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15BDA5-5FA1-44BD-8ADA-28F568CE2A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5EA46F-337E-49A5-9522-269F4A4101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5C705E-1188-42E6-8715-90F57C4534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8E63FF-69D6-47E0-85C0-EE810D3449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37BAD4-3ED2-4A16-8BB2-C0657EDE2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E63DD-023C-47D4-9CB0-D5DF140DE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89116-268B-4BCE-8EF2-D31B03C10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AAD12-DC40-4C53-8233-9E6146BA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00D98-07A2-40EA-B429-148068EF80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A25F5F-B057-457C-B176-2E9E665FEF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DD0422-86CC-4483-87FE-4C58F51C71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5FACE-A9C3-4B44-ACC2-4E2361C53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C509-8C33-4AEC-AA62-5F7C32240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E854-A995-48D3-966D-A8DA9E33D7F3}"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197F-074F-4630-B301-BDDB67A7F73B}"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CEC7-82F9-46AD-9176-642F6655B1DC}"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8D38-9AE1-44EC-80D2-88E0093F6A89}"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CA75-1AE8-4E70-9712-6A45BAA05653}"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9010-4BCB-4EFC-BD02-9FEDC7505D98}"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as Pressure</a:t>
            </a:r>
            <a:endParaRPr b="0" lang="en-US" sz="4600" spc="-1" strike="noStrike">
              <a:solidFill>
                <a:srgbClr val="ffffff"/>
              </a:solidFill>
              <a:latin typeface="Franklin Gothic Book"/>
            </a:endParaRPr>
          </a:p>
        </p:txBody>
      </p:sp>
      <p:sp>
        <p:nvSpPr>
          <p:cNvPr id="25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sure that a gas exerts on a material due to particles colliding with an objec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particles = no collisions = vacuu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mospheric pressure is the gas pressure of the atmosphere on object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barometer measures the specific atmospheric pressure at certain altitudes et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5</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n a gas exert pressure in an open container?  Explain.</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es</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pressure is the collisions of a gas to an object, regardless of it being closed or op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arometer</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barometer measures the gas pressure at certain altitudes and location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atmosphere exerts pressure on a liquid in a container, sometimes mercury, and the mercury is forced into a tube with a vacuum to measure the pressu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6</a:t>
            </a:r>
            <a:endParaRPr b="0" lang="en-US" sz="4600" spc="-1" strike="noStrike">
              <a:solidFill>
                <a:srgbClr val="ffffff"/>
              </a:solidFill>
              <a:latin typeface="Franklin Gothic Book"/>
            </a:endParaRPr>
          </a:p>
        </p:txBody>
      </p:sp>
      <p:sp>
        <p:nvSpPr>
          <p:cNvPr id="26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does a barometer work?  Use drawings.</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 explained on the previous slide, a barometer works via atmospheric pressure on a liquid.</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62" name="Picture 2" descr="http://www.barometerplanet.com/wp-content/uploads/2009/09/merc_barometer.jpg"/>
          <p:cNvPicPr/>
          <p:nvPr/>
        </p:nvPicPr>
        <p:blipFill>
          <a:blip r:embed="rId1"/>
          <a:stretch/>
        </p:blipFill>
        <p:spPr>
          <a:xfrm>
            <a:off x="1600200" y="3276720"/>
            <a:ext cx="2762280" cy="273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essure Measurements</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pascal (Pa) is a very small unit of pressure.  Atmospheric pressure is 100,000 pascals.</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older measurement is mm Hg, which measures the millimeters of mercury raised in a barometer.</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standard atmosphere (atm) is the pressure required to support mercury 760 mm at 25 degrees Celsius</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atm = 760 mm Hg = 101.3 P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Kinetic Energy and Temperature</a:t>
            </a:r>
            <a:endParaRPr b="0" lang="en-US" sz="4100" spc="-1" strike="noStrike">
              <a:solidFill>
                <a:srgbClr val="ffffff"/>
              </a:solidFill>
              <a:latin typeface="Franklin Gothic Book"/>
            </a:endParaRPr>
          </a:p>
        </p:txBody>
      </p:sp>
      <p:pic>
        <p:nvPicPr>
          <p:cNvPr id="266" name="" descr=""/>
          <p:cNvPicPr/>
          <p:nvPr/>
        </p:nvPicPr>
        <p:blipFill>
          <a:blip r:embed="rId1"/>
          <a:stretch/>
        </p:blipFill>
        <p:spPr>
          <a:xfrm>
            <a:off x="456840" y="1600200"/>
            <a:ext cx="7467480" cy="4525920"/>
          </a:xfrm>
          <a:prstGeom prst="rect">
            <a:avLst/>
          </a:prstGeom>
          <a:ln w="0">
            <a:noFill/>
          </a:ln>
        </p:spPr>
      </p:pic>
      <p:pic>
        <p:nvPicPr>
          <p:cNvPr id="267" name="Picture 2" descr="http://itl.chem.ufl.edu/2045/change/C15F14.GIF"/>
          <p:cNvPicPr/>
          <p:nvPr/>
        </p:nvPicPr>
        <p:blipFill>
          <a:blip r:embed="rId2"/>
          <a:stretch/>
        </p:blipFill>
        <p:spPr>
          <a:xfrm>
            <a:off x="1676520" y="1219320"/>
            <a:ext cx="5743440" cy="43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7</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does KMT (kinetic molecular theory) and the distribution curve explain temperature?</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d water (materials) has more molecules with low kinetic energy while warmer water (materials) has a more even distribution but much of the molecules has more kinetic energ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Kelvin</a:t>
            </a:r>
            <a:endParaRPr b="0" lang="en-US" sz="46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Kelvin scale is in essence a version of the Celsius scale but the start point is absolute zer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bsolute zero is the temperature where all molecules, atoms and the like have no motion or KE at al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rectly porportional to Kinetic Energ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8</a:t>
            </a:r>
            <a:endParaRPr b="0" lang="en-US" sz="46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is the Kelvin scale used in reporting temperature?</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lvin starts at absolute zero where all the molecules and atoms have no motion whatsoever.  Kelvin is directly proportional to Kinetic energy, this makes it ideal to report the temperature of matter so there can be an idea of the kinetic energy of the mat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12:35:51Z</dcterms:created>
  <dc:creator>14rye</dc:creator>
  <dc:description/>
  <dc:language>en-US</dc:language>
  <cp:lastModifiedBy>14rye</cp:lastModifiedBy>
  <dcterms:modified xsi:type="dcterms:W3CDTF">2012-04-26T13:02:34Z</dcterms:modified>
  <cp:revision>3</cp:revision>
  <dc:subject/>
  <dc:title>Gas Pressure</dc:title>
</cp:coreProperties>
</file>